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1400-EB7F-48F3-9D28-2EBADD2D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E01-FF98-4C3F-A98B-9B3B61F2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DC33-684B-4E5E-A195-07BFC506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731-11DC-4178-B34C-B6DDAF09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F9C8-6CFA-42A1-BD26-409FCC2B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C3DC-9F9E-4ACD-8F0A-CF631967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D039-931E-439D-BF09-FFB98940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3CE8-B131-4220-A9B4-88C5D80E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D083-063E-4CF2-83F6-C70A70E7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3940-0951-4C8E-9ED6-C12DDB6C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6B01-E004-4EF1-BDA3-9A59E4B0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11D-FB25-462B-8D48-BE956CA7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2E41-5566-4EBB-A236-EEDA4C1A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BDE6-5070-4606-A111-E5359EE2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BBBF-E511-49F4-AA18-1050E866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9B67-3D1D-4212-A7AE-3FB33425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CB9E-2D6D-404D-8E5E-190380E3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2773-9D3A-4CDF-974D-DDEF7022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E6F-BF36-4C7B-A325-AECCDF94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ABC8-5AC7-4C77-825A-6FFD3332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12D9-7627-42F5-B970-F5618612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1FC0-B287-4221-963C-FD1418EC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C2B-EFFD-441C-8ABB-F44499BE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891-22BF-4DD4-A517-7D0876C4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89E3-7A67-489A-8835-694B1D7019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5496-0EE9-43D4-AE40-5A6716FD5DC6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333399"/>
                </a:solidFill>
                <a:latin typeface="Tahoma"/>
              </a:rPr>
              <a:t>Konceptuální rámec výzkumu - </a:t>
            </a:r>
            <a:r>
              <a:rPr b="1" lang="cs-CZ" sz="2800" spc="-1" strike="noStrike">
                <a:solidFill>
                  <a:srgbClr val="ff0000"/>
                </a:solidFill>
                <a:latin typeface="Tahoma"/>
              </a:rPr>
              <a:t>úko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64-T"/>
          <p:cNvPicPr/>
          <p:nvPr/>
        </p:nvPicPr>
        <p:blipFill>
          <a:blip r:embed="rId1"/>
          <a:stretch/>
        </p:blipFill>
        <p:spPr>
          <a:xfrm>
            <a:off x="2627280" y="260280"/>
            <a:ext cx="34066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Techniky sběru a analýzy d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teorii/věd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Předpokládané přínosy výzkumu pro prax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Použité zdroj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Název disertační prá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doktoran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Jméno a příjmení školit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Oblast výzku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Literární rešerš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Tahoma"/>
              </a:rPr>
              <a:t>Výzkumný problém a hlavní cíl výzkumu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ýzkumné otázk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Dílčí výzkumné cí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Hypotéz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Tahoma"/>
              </a:rPr>
              <a:t>Volba met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2T20:27:22Z</dcterms:created>
  <dc:creator>Pavelková Drahomíra</dc:creator>
  <dc:description/>
  <dc:language>en-US</dc:language>
  <cp:lastModifiedBy>Drahomíra Pavelková</cp:lastModifiedBy>
  <dcterms:modified xsi:type="dcterms:W3CDTF">2019-09-11T19:13:49Z</dcterms:modified>
  <cp:revision>2</cp:revision>
  <dc:subject/>
  <dc:title>      Konceptuální rámec výzkumu - úk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